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31.gif" ContentType="image/gif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39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9E1-A234-40A0-B6F6-5E38E47E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C2D-9250-4801-9C75-ED333560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5F8B-072F-4331-88A4-DA54F86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0B61E-F82F-42B3-87A5-D1767F11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C4DB4-D3B8-4A86-ADC0-44E7B55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54C52-4C5D-4CF3-9812-3471669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CC8DD-6CAA-426D-9F12-D21E6EA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12AF4-083D-43ED-A16C-3B58FF9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18A37-B74A-45A1-9DC6-3EB923C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98D4B-0EE8-40A5-BAE9-E56E2B7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B01EB-06E8-49C0-9FD9-8EFC3CCA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5E1EA-A2D9-4C70-99E3-C58F82FF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CAD-D3EA-42A6-9639-AC4E6D8E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2C739-B1D4-4AAA-8C42-34D6D8F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33237-E336-400B-9C0F-3FDBC1B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E0551-CD90-4EC9-98EC-4D40DD15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9804C-21DA-4200-BF4A-AE25E19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AA476-F7D8-4E96-A07F-DE039AF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07F83-A846-49BE-9497-0EEF6F0B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053FF-B22C-45F2-8FD1-6098F3B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034BC-4FA9-4F11-9A03-BCEEB24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D74A7-D7E2-42F6-BA7D-73501823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799F9-3C09-48B0-A07B-EDE74ABE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EAF-1C89-438B-9854-0204B2AB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2593-A544-4B90-A02C-DC55D9E1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3115-6C9D-4F06-BFAD-F578FCCB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1B87-9F42-4BB2-8651-11DEF17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49F5D-AB2D-45A1-8279-67B450F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965C1-0CAA-4F5B-AF1B-DDCE4F3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DF325-FD82-42E3-8DDB-AD08AF62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6EB17-7E69-4C2E-99EA-C5A4D82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983F-BF68-470D-992B-31247A3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6E3D-9329-4CA4-AF21-63B3BE8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2CFCB-7085-4D46-AE51-58ABBED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2EB8-56A7-4201-92EF-289A28E8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F6E6E-3ACB-4A3F-98F1-21DDD9E1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D751-90AB-4E52-95B3-D088960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DF129-9913-4837-8A18-71ACCEF7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62E6-432C-4640-BA71-D35903A6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C7EAC-985D-4F09-B06D-E75D8DD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7C226-6FCE-4339-AD10-99FC10B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753D0-6C59-4C4B-90AC-CA6D12C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9865C-2C38-4A31-A2A3-9555E33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E7E1-0E3E-49BC-8955-0E1B25B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12052-8F6E-41D4-A60D-82718BD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66A-6B04-4F13-92BB-D3E0ECD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05C1B-9D7D-4015-B917-844E260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39937-2822-4370-BD17-85CB5BE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EC09E-5D67-4348-B392-D6E7F93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63CC-88C5-4380-8DA6-2C94D68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5AA20-C696-4C18-A081-51C9AEED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2092-DA4E-43E4-B8CE-7D5E09BC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977B3-A433-4344-AA88-58F829D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24710-AAAD-42F2-89DF-C912012C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F539A-3498-4E93-BF0E-301483C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D5537-441C-425E-96BE-C9973D25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948-74E7-483E-A43F-5705D114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F3D2F-0C79-4F3D-922D-BD6C4B28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A976B-2D0D-4E97-B8AD-B573A4A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9A152-C818-4174-B8A0-9E769BF0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901FD-AC3A-4EB7-8D27-6C7D252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CE446-63AA-463B-9779-5F37D06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13408-DEF5-4FBA-AE52-69CE3ADA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7E45F-B53A-43A5-9148-050E289F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1D8-7201-4A50-B612-F16594A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771-DDD5-492C-8099-25D6B0C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1EF5-0070-4892-90AA-EFBA080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5C45-582D-426F-B4ED-C426B50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DD4-A4C0-48EF-808B-D71B7ED1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481D-E6F6-426B-A094-292F149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094D-E9C8-4DA8-B4D3-4C93E8A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E023-C81F-4B65-9BE9-A7EDED8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F53-CF02-436D-8CB8-CB83AD03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972-C630-43E3-8CFE-21B64EC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CB11-BE8B-4674-87E4-7A10E445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3719-EBFE-402B-93EF-E95C045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A39E-CAF9-43EE-AD16-61BD946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80B0-9BC4-4C8D-8D70-AADB0B06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0F54-DD0B-4AB1-BB87-4944534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2BE-4FB8-4873-AC6E-910134B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AF02-7336-4081-8631-C0AE6D1B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8FDD-4D09-4B3C-B719-F37872F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D6D4-35AA-49E2-B46B-3990337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296D-01E5-4223-8504-EE76F82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464C-C1FF-4AD6-83EB-DBD89D4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5EA8-2880-45A3-8179-43DD33A5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31A0-091A-427E-8248-9A13E55F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A066-B8FF-4F5E-ADE8-7D00BE6B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3F41-C5BA-4F40-8381-3EA06CE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D2EA-518B-466A-BAD2-64AFD3A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DFA-A392-4BED-A55D-D4E88D90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FA3F-3E05-400E-9280-DB4DCA8D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B928-ABBE-4EBE-84B8-6EB3853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125A-DC56-4538-82AA-6AAD55F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A4AE-D12B-4040-8325-7840D9C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1E98-A2B6-4B59-A725-C9A38216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DF61-AC41-4C6A-819D-4261235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D973-9FB3-4370-BCED-FF7038A8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C775-E401-4850-A8A0-97FE5DD5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7614-640D-48D3-92BB-A01BE822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106C-0A63-432F-8886-1BCCFEA1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CA1-0C31-4230-998B-3C520D56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C19F-8DC2-424F-955D-A128345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3F37-FA27-4D22-849B-E7170DA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4D92-B9AF-4A2A-BFCC-A6EC44D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0C66-6002-42C4-BB2C-E3E825B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8B50-5D7D-40E0-BC4C-12169B8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65F0-6615-4BF0-9B0C-943044C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E988-44F0-4978-9150-88AE689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3051-B760-44C5-9C04-D2BBDA4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384D-EC39-4B92-BF65-7BBB54F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3E75-1370-48DF-90F1-64816899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5AC-C977-4912-BC21-563479F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B7EA-816C-49EB-ADFA-CB8C1316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E4CA-4D3F-46F4-89DA-29E1920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49211-CAFD-431E-81A8-40DCCFDB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4C4C-2DB3-49D4-850F-A0F645C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1387-AF9D-461F-9884-F39AD1A5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5F27-5B11-4F58-B1D8-AA923086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9BBB-4A54-4FE1-81DA-176D4E4A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5C37-B431-4B27-85F0-2C40A8D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F8A3-7DE4-43F5-8F98-313129AC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6915-9315-43CC-9A72-0526D1B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A6C-D97A-4315-AC60-5D3E4EC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D8A5-1201-48D1-A09A-8B2A919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4B41-C5E0-4F93-8B9D-7552FA6F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C353-F2AE-460F-8A95-A10DFA97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0C86-86F1-43E9-B564-2552AC08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6D71D-E0BD-4591-8B42-B154EDB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A323A-4A6D-4EC9-A7FF-8263EBFD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38D9-DA7E-460A-96F4-BBED4D8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F8E8-BA81-4C10-BF61-201B51B1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D9A34-69D5-4EB6-854B-66510CE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5ECD-D6DC-4D76-AC88-E3695CF6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29F-911F-4B36-B4F1-024DD1D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0286-EB15-4712-B081-5743414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6199-C2D0-4BFB-AE4D-9502AEB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FF30-8BE5-4557-A592-62FC3DA1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9C5F-4C55-4213-B2CC-070462EE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AA6A7-083A-4981-85F5-70A2DA8D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3DD7-CD9E-4323-BB43-1D472C8A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BC55-0500-48BD-B3D4-1012319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8F6C6-6385-47BC-97CD-4447E9E2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7FDB0-3BAC-4876-ABC4-A1780A7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C2DF-ED54-40BC-9109-BE6E1B8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5D9-7209-4BE4-B34E-5776D73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5EEC-6E93-4390-86B9-752EFF04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3AB6-65D4-406C-BEAD-30A2372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CD6A-DBC1-400E-B2F4-82FC007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76E3-2942-4AED-AD50-EA73B2DD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18E8E-ACB0-42D0-9AA8-64ACA01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DFEBC-B83C-4A18-AA33-DD393BB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2EFF-BD32-4515-9071-923F93F3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FBE7-9E0C-49FE-9AD3-53A3AB05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23B01-6BC9-427B-BE29-2DDAA54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BA6EC-96D3-4AD2-8B67-E290043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A3ED-93A4-4320-B06F-F2FA1703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EFF-5A19-405A-AB52-255020626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0D3-974C-4572-BD54-A4619A5F1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76F-AB18-44A2-9865-01CB45045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50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5CA-EED7-4BCC-8E7A-54CB4C0F69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AE40-DA41-45CC-8DA8-9FD68BC5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C78-2B9C-4A6F-B9D4-36161571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2F97-8B53-4962-A632-00C00321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2EE-2FC2-48AC-A985-BE97BF4B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909-81CC-481D-AFC6-1F83BC25B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3E84-4DF2-4A6C-93EF-2420E37D5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E5B-C686-4761-B7B0-690C03DFE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EED-9975-474D-8377-CD5D5FD4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5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../../&#20339;&#25991;.&#24433;&#29255;.&#26377;&#30340;&#27794;&#30340;/&#36948;&#20154;&#31168;&#8220;&#27665;&#24037;&#34903;&#33310;%20&#8221;&#24149;&#21518;&#29983;&#27963;&#22823;&#25581;&#31192;(cut).rv" TargetMode="External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1042920" y="126828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ff"/>
                </a:solidFill>
                <a:latin typeface="華康少女文字W7"/>
                <a:ea typeface="華康少女文字W7"/>
              </a:rPr>
              <a:t>如何製作屬於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ff"/>
                </a:solidFill>
                <a:latin typeface="華康少女文字W7"/>
                <a:ea typeface="華康少女文字W7"/>
              </a:rPr>
              <a:t>自己的生涯檔案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300120" y="3789360"/>
            <a:ext cx="24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華康POP2體W9(P)"/>
                <a:ea typeface="華康POP2體W9(P)"/>
              </a:rPr>
              <a:t> </a:t>
            </a:r>
            <a:r>
              <a:rPr b="0" lang="zh-TW" sz="4800" spc="-1" strike="noStrike">
                <a:solidFill>
                  <a:srgbClr val="ff3399"/>
                </a:solidFill>
                <a:latin typeface="華康POP2體W9(P)"/>
                <a:ea typeface="華康POP2體W9(P)"/>
              </a:rPr>
              <a:t>羅伊岑 老師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7" name="圖片 3" descr="04.gif.gif"/>
          <p:cNvPicPr/>
          <p:nvPr/>
        </p:nvPicPr>
        <p:blipFill>
          <a:blip r:embed="rId1"/>
          <a:stretch/>
        </p:blipFill>
        <p:spPr>
          <a:xfrm>
            <a:off x="2340000" y="4005360"/>
            <a:ext cx="504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ff"/>
                </a:solidFill>
                <a:latin typeface="華康POP2體W9"/>
                <a:ea typeface="華康POP2體W9"/>
              </a:rPr>
              <a:t>範例參考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800" spc="-1" strike="noStrike">
              <a:solidFill>
                <a:srgbClr val="ffcc66"/>
              </a:solidFill>
              <a:latin typeface="Times New Roman"/>
              <a:ea typeface="標楷體"/>
            </a:endParaRPr>
          </a:p>
        </p:txBody>
      </p:sp>
      <p:sp>
        <p:nvSpPr>
          <p:cNvPr id="569" name="Oval 8"/>
          <p:cNvSpPr/>
          <p:nvPr/>
        </p:nvSpPr>
        <p:spPr>
          <a:xfrm>
            <a:off x="2340000" y="404640"/>
            <a:ext cx="3456000" cy="93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80844"/>
                </a:solidFill>
                <a:latin typeface="Times New Roman"/>
              </a:rPr>
              <a:t>我的成長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0" name="Picture 4" descr="DSC01180"/>
          <p:cNvPicPr/>
          <p:nvPr/>
        </p:nvPicPr>
        <p:blipFill>
          <a:blip r:embed="rId1"/>
          <a:stretch/>
        </p:blipFill>
        <p:spPr>
          <a:xfrm>
            <a:off x="971640" y="1557360"/>
            <a:ext cx="70675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72" name="Picture 4" descr="DSC01247"/>
          <p:cNvPicPr/>
          <p:nvPr/>
        </p:nvPicPr>
        <p:blipFill>
          <a:blip r:embed="rId1"/>
          <a:srcRect l="2561" t="0" r="0" b="0"/>
          <a:stretch/>
        </p:blipFill>
        <p:spPr>
          <a:xfrm>
            <a:off x="2050920" y="1484280"/>
            <a:ext cx="5483520" cy="539280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7"/>
          <p:cNvSpPr/>
          <p:nvPr/>
        </p:nvSpPr>
        <p:spPr>
          <a:xfrm>
            <a:off x="2411280" y="0"/>
            <a:ext cx="5329440" cy="1008000"/>
          </a:xfrm>
          <a:prstGeom prst="wedgeEllipseCallout">
            <a:avLst>
              <a:gd name="adj1" fmla="val -32870"/>
              <a:gd name="adj2" fmla="val 96773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看！我多可愛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203640" y="333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成長歷程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627280" y="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66"/>
                </a:solidFill>
                <a:latin typeface="Arial"/>
              </a:rPr>
              <a:t>成長歷程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83" name="Picture 4" descr="DSC01184"/>
          <p:cNvPicPr/>
          <p:nvPr/>
        </p:nvPicPr>
        <p:blipFill>
          <a:blip r:embed="rId1"/>
          <a:stretch/>
        </p:blipFill>
        <p:spPr>
          <a:xfrm>
            <a:off x="826920" y="1197000"/>
            <a:ext cx="7490160" cy="547668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8"/>
          <p:cNvSpPr/>
          <p:nvPr/>
        </p:nvSpPr>
        <p:spPr>
          <a:xfrm>
            <a:off x="2556000" y="260280"/>
            <a:ext cx="3456000" cy="792360"/>
          </a:xfrm>
          <a:prstGeom prst="wedgeEllipseCallout">
            <a:avLst>
              <a:gd name="adj1" fmla="val -47935"/>
              <a:gd name="adj2" fmla="val 70041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Times New Roman"/>
              </a:rPr>
              <a:t>成長曲線圖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86" name="Picture 4" descr="DSC01181"/>
          <p:cNvPicPr/>
          <p:nvPr/>
        </p:nvPicPr>
        <p:blipFill>
          <a:blip r:embed="rId1"/>
          <a:stretch/>
        </p:blipFill>
        <p:spPr>
          <a:xfrm>
            <a:off x="142920" y="1333440"/>
            <a:ext cx="4068720" cy="542448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0"/>
          <p:cNvSpPr/>
          <p:nvPr/>
        </p:nvSpPr>
        <p:spPr>
          <a:xfrm>
            <a:off x="2987640" y="189000"/>
            <a:ext cx="2808360" cy="936360"/>
          </a:xfrm>
          <a:prstGeom prst="wedgeEllipseCallout">
            <a:avLst>
              <a:gd name="adj1" fmla="val -21564"/>
              <a:gd name="adj2" fmla="val 40847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</a:rPr>
              <a:t>休閒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1908000" y="73836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9" name="Picture 14" descr="DSC01228"/>
          <p:cNvPicPr/>
          <p:nvPr/>
        </p:nvPicPr>
        <p:blipFill>
          <a:blip r:embed="rId2"/>
          <a:srcRect l="3254" t="2520" r="5494" b="3590"/>
          <a:stretch/>
        </p:blipFill>
        <p:spPr>
          <a:xfrm>
            <a:off x="4643280" y="1268280"/>
            <a:ext cx="43452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93" name="Picture 3" descr="DSC01232"/>
          <p:cNvPicPr/>
          <p:nvPr/>
        </p:nvPicPr>
        <p:blipFill>
          <a:blip r:embed="rId1"/>
          <a:stretch/>
        </p:blipFill>
        <p:spPr>
          <a:xfrm>
            <a:off x="1200240" y="1557360"/>
            <a:ext cx="5027400" cy="5200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810240" cy="449568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/>
          <p:cNvSpPr/>
          <p:nvPr/>
        </p:nvSpPr>
        <p:spPr>
          <a:xfrm>
            <a:off x="2916360" y="260280"/>
            <a:ext cx="4105080" cy="1114560"/>
          </a:xfrm>
          <a:prstGeom prst="wedgeEllipseCallout">
            <a:avLst>
              <a:gd name="adj1" fmla="val -20185"/>
              <a:gd name="adj2" fmla="val 65101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3419640" y="333360"/>
            <a:ext cx="28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3132000" y="692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eaeaea"/>
                </a:solidFill>
                <a:latin typeface="Times New Roman"/>
              </a:rPr>
              <a:t>加入體檢或測驗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9343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200b5b"/>
                </a:solidFill>
                <a:latin typeface="Times New Roman"/>
                <a:ea typeface="標楷體"/>
              </a:rPr>
              <a:t>「生涯」究竟是什麼？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39640" y="1484280"/>
            <a:ext cx="7704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華康中圓體"/>
                <a:ea typeface="華康中圓體"/>
              </a:rPr>
              <a:t>廣義：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一個人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一生當中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，在家庭、學校、社會所從事的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工作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，以及所擔任的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職務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和所扮演的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角色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，所累積的相關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經驗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、所塑造的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行為態度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及所選擇的</a:t>
            </a: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生活態度</a:t>
            </a:r>
            <a:r>
              <a:rPr b="1" lang="zh-TW" sz="3200" spc="-1" strike="noStrike">
                <a:solidFill>
                  <a:srgbClr val="006600"/>
                </a:solidFill>
                <a:latin typeface="華康中圓體"/>
                <a:ea typeface="華康中圓體"/>
              </a:rPr>
              <a:t>（亦即除了升學、就業外，人際關係、休閒娛樂等，也都是生涯的一部分</a:t>
            </a:r>
            <a:r>
              <a:rPr b="0" lang="zh-TW" sz="3200" spc="-1" strike="noStrike">
                <a:solidFill>
                  <a:srgbClr val="006600"/>
                </a:solidFill>
                <a:latin typeface="華康中圓體"/>
                <a:ea typeface="華康中圓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華康中圓體"/>
                <a:ea typeface="華康中圓體"/>
              </a:rPr>
              <a:t>）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。</a:t>
            </a:r>
            <a:r>
              <a:rPr b="0" lang="zh-TW" sz="3200" spc="-1" strike="noStrike">
                <a:solidFill>
                  <a:srgbClr val="eaeaea"/>
                </a:solidFill>
                <a:latin typeface="華康中圓體"/>
                <a:ea typeface="華康中圓體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你想要過什麼樣的生活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0" name="圖片 7" descr="2007-i002s.gif"/>
          <p:cNvPicPr/>
          <p:nvPr/>
        </p:nvPicPr>
        <p:blipFill>
          <a:blip r:embed="rId1"/>
          <a:stretch/>
        </p:blipFill>
        <p:spPr>
          <a:xfrm>
            <a:off x="7885080" y="260280"/>
            <a:ext cx="971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99" name="Picture 3" descr="06興趣性向"/>
          <p:cNvPicPr/>
          <p:nvPr/>
        </p:nvPicPr>
        <p:blipFill>
          <a:blip r:embed="rId1"/>
          <a:stretch/>
        </p:blipFill>
        <p:spPr>
          <a:xfrm>
            <a:off x="1476360" y="1197000"/>
            <a:ext cx="4692600" cy="51847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4"/>
          <p:cNvSpPr/>
          <p:nvPr/>
        </p:nvSpPr>
        <p:spPr>
          <a:xfrm>
            <a:off x="4788000" y="260280"/>
            <a:ext cx="2879640" cy="1008000"/>
          </a:xfrm>
          <a:prstGeom prst="wedgeEllipseCallout">
            <a:avLst>
              <a:gd name="adj1" fmla="val -35060"/>
              <a:gd name="adj2" fmla="val 62912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興趣與性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703840" y="449280"/>
            <a:ext cx="95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03" name="Picture 3" descr="DSCN123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212760"/>
            <a:ext cx="4265640" cy="635616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pic>
        <p:nvPicPr>
          <p:cNvPr id="604" name="Picture 4" descr="DSCN123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88080" y="187200"/>
            <a:ext cx="4152600" cy="6431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box-bg"/>
          <p:cNvPicPr/>
          <p:nvPr/>
        </p:nvPicPr>
        <p:blipFill>
          <a:blip r:embed="rId1"/>
          <a:stretch/>
        </p:blipFill>
        <p:spPr>
          <a:xfrm>
            <a:off x="5584680" y="3298680"/>
            <a:ext cx="3559320" cy="355932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07" name="Picture 4" descr="DSCN122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9680" y="189000"/>
            <a:ext cx="4465800" cy="64800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pic>
        <p:nvPicPr>
          <p:cNvPr id="608" name="Picture 5" descr="DSCN1226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43280" y="189000"/>
            <a:ext cx="4237200" cy="64800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DSC01236"/>
          <p:cNvPicPr/>
          <p:nvPr/>
        </p:nvPicPr>
        <p:blipFill>
          <a:blip r:embed="rId1"/>
          <a:stretch/>
        </p:blipFill>
        <p:spPr>
          <a:xfrm>
            <a:off x="900000" y="1484280"/>
            <a:ext cx="3816360" cy="5111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3624120" y="398880"/>
            <a:ext cx="2685960" cy="659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Times New Roman"/>
              </a:rPr>
              <a:t>看我光榮史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11" name="Picture 4" descr="DSC01231"/>
          <p:cNvPicPr/>
          <p:nvPr/>
        </p:nvPicPr>
        <p:blipFill>
          <a:blip r:embed="rId2"/>
          <a:stretch/>
        </p:blipFill>
        <p:spPr>
          <a:xfrm>
            <a:off x="4859280" y="1484280"/>
            <a:ext cx="388944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348000" y="105264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66"/>
                </a:solidFill>
                <a:latin typeface="Arial"/>
              </a:rPr>
              <a:t>我的作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413000"/>
            <a:ext cx="8642160" cy="54450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Times New Roman"/>
                <a:ea typeface="華康中圓體"/>
              </a:rPr>
              <a:t>個人在校成績單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09"/>
          <p:cNvPicPr/>
          <p:nvPr/>
        </p:nvPicPr>
        <p:blipFill>
          <a:blip r:embed="rId1"/>
          <a:stretch/>
        </p:blipFill>
        <p:spPr>
          <a:xfrm>
            <a:off x="97164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5651640" y="335772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華康中圓體"/>
              </a:rPr>
              <a:t>證書若能配合影像記錄會更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3" name="Picture 4" descr="拖雞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805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93432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200b5b"/>
                </a:solidFill>
                <a:latin typeface="Times New Roman"/>
                <a:ea typeface="標楷體"/>
              </a:rPr>
              <a:t>「生涯」究竟是什麼？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755640" y="1484280"/>
            <a:ext cx="7920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華康中圓體"/>
                <a:ea typeface="華康中圓體"/>
              </a:rPr>
              <a:t>狹義：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 一個人選擇什麼樣的工作就會有什麼樣的「生活型態」，因為工作與生活是息息相關，互相影響的。面對不同的工作型態，你就得在人際交往、家庭生活、休閒</a:t>
            </a:r>
            <a:r>
              <a:rPr b="1" lang="en-US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‧‧‧</a:t>
            </a:r>
            <a:r>
              <a:rPr b="1" lang="zh-TW" sz="3200" spc="-1" strike="noStrike">
                <a:solidFill>
                  <a:srgbClr val="2d2442"/>
                </a:solidFill>
                <a:latin typeface="華康中圓體"/>
                <a:ea typeface="華康中圓體"/>
              </a:rPr>
              <a:t>等做各種不同的安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個人未來的職業、所從事的工作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華康中圓體"/>
                <a:ea typeface="華康中圓體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Times New Roman"/>
              </a:rPr>
              <a:t>生涯規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  </a:t>
            </a: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生涯檔案製作原則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2700000" y="1341360"/>
            <a:ext cx="460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內容充實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分析</a:t>
            </a: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&amp;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省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事證</a:t>
            </a: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&amp;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真實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分享性</a:t>
            </a: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&amp;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價值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系統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持續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9343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 </a:t>
            </a: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老師對你們的期待是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…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檔案夾由個人妥善保管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（寒暑假由學校統一保管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自己負責整合及檢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隨時發現自己的可能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讚嘆自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別忘了長期做、時時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每學期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定期繳回抽查，並列入成績考察重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（一年級上學期抽查日期：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02/01/02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  </a:t>
            </a: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最後的叮嚀</a:t>
            </a:r>
            <a:br>
              <a:rPr sz="4000"/>
            </a:b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                  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(</a:t>
            </a: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製作前的心理準備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763640" y="1773360"/>
            <a:ext cx="5616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假想</a:t>
            </a: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N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年後的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訂定一個目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寫下達到目標需要的步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預留進步的空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廢話少說，做就對了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72723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ff33cc"/>
                </a:solidFill>
                <a:uFillTx/>
                <a:latin typeface="華康流隸體"/>
                <a:ea typeface="華康流隸體"/>
                <a:hlinkClick r:id="rId1"/>
              </a:rPr>
              <a:t>凡走過必留下痕跡</a:t>
            </a:r>
            <a:r>
              <a:rPr b="0" lang="zh-TW" sz="6000" spc="-1" strike="noStrike">
                <a:solidFill>
                  <a:srgbClr val="ff0000"/>
                </a:solidFill>
                <a:latin typeface="華康流隸體"/>
                <a:ea typeface="華康流隸體"/>
              </a:rPr>
              <a:t>！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45" name="圖片 6" descr="147844a3e800ef.gif"/>
          <p:cNvPicPr/>
          <p:nvPr/>
        </p:nvPicPr>
        <p:blipFill>
          <a:blip r:embed="rId2"/>
          <a:stretch/>
        </p:blipFill>
        <p:spPr>
          <a:xfrm>
            <a:off x="7308720" y="476280"/>
            <a:ext cx="1195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3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934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生涯發展教育的內容重點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11280" y="1341360"/>
          <a:ext cx="7993080" cy="3780000"/>
        </p:xfrm>
        <a:graphic>
          <a:graphicData uri="http://schemas.openxmlformats.org/drawingml/2006/table">
            <a:tbl>
              <a:tblPr/>
              <a:tblGrid>
                <a:gridCol w="1208160"/>
                <a:gridCol w="2298600"/>
                <a:gridCol w="4486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年級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內容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重點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自我覺察與探索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6600cc"/>
                          </a:solidFill>
                          <a:latin typeface="標楷體"/>
                          <a:ea typeface="標楷體"/>
                        </a:rPr>
                        <a:t>探索興趣、能力、性向、價值觀等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覺察與試探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6600cc"/>
                          </a:solidFill>
                          <a:latin typeface="標楷體"/>
                          <a:ea typeface="標楷體"/>
                        </a:rPr>
                        <a:t>認識各產業及生涯類群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cc0099"/>
                          </a:solidFill>
                          <a:latin typeface="標楷體"/>
                          <a:ea typeface="標楷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規劃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6600cc"/>
                          </a:solidFill>
                          <a:latin typeface="標楷體"/>
                          <a:ea typeface="標楷體"/>
                        </a:rPr>
                        <a:t>協助學生為未來做好行動方案及生涯規劃 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442"/>
                      </a:solidFill>
                    </a:lnL>
                    <a:lnR w="5760">
                      <a:solidFill>
                        <a:srgbClr val="2d2442"/>
                      </a:solidFill>
                    </a:lnR>
                    <a:lnT w="5760">
                      <a:solidFill>
                        <a:srgbClr val="2d2442"/>
                      </a:solidFill>
                    </a:lnT>
                    <a:lnB w="5760">
                      <a:solidFill>
                        <a:srgbClr val="2d244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生涯發展金三角圖"/>
          <p:cNvPicPr/>
          <p:nvPr/>
        </p:nvPicPr>
        <p:blipFill>
          <a:blip r:embed="rId1"/>
          <a:stretch/>
        </p:blipFill>
        <p:spPr>
          <a:xfrm>
            <a:off x="539640" y="81000"/>
            <a:ext cx="8353440" cy="6775560"/>
          </a:xfrm>
          <a:prstGeom prst="rect">
            <a:avLst/>
          </a:prstGeom>
          <a:ln w="0">
            <a:noFill/>
          </a:ln>
        </p:spPr>
      </p:pic>
      <p:sp>
        <p:nvSpPr>
          <p:cNvPr id="556" name="文字方塊 2"/>
          <p:cNvSpPr/>
          <p:nvPr/>
        </p:nvSpPr>
        <p:spPr>
          <a:xfrm>
            <a:off x="6948360" y="1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華康中圓體"/>
                <a:ea typeface="華康中圓體"/>
              </a:rPr>
              <a:t>生涯手冊</a:t>
            </a:r>
            <a:r>
              <a:rPr b="0" lang="en-US" sz="2400" spc="-1" strike="noStrike">
                <a:solidFill>
                  <a:srgbClr val="000099"/>
                </a:solidFill>
                <a:latin typeface="華康中圓體"/>
                <a:ea typeface="華康中圓體"/>
              </a:rPr>
              <a:t>P.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6643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生涯檔案是什麼？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23640" y="62028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生涯檔案是為了幫助同學，以統整的角度，由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個人、環境、資訊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這三個面向出發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整合自己的興趣、能力、特質、價值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各項工作、職業、產業及生涯類群的認識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同學在做決定前，能夠了解自己、看清楚自己想要的是什麼，與家人、師長分享與討論，獲得支持的力量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重點是：我們無法告訴你一定要往哪裡走，因為未來掌握在你手裡；方向在你心裡，你是自己生命的主人。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09680" y="259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生涯檔案是什麼？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971640" y="476280"/>
            <a:ext cx="72896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ff"/>
                </a:solidFill>
                <a:latin typeface="Times New Roman"/>
                <a:ea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以描繪自己的資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以認識自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〈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讓別人可以認識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未來進路的參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〈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來甄選或申請學校的參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怎麼做？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2124000" y="1773000"/>
            <a:ext cx="60962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蒐集現有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創造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隨時增添及檢視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不要放過小線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訂定目標及行動計畫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3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3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3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3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3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9343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00b5b"/>
                </a:solidFill>
                <a:latin typeface="Times New Roman"/>
                <a:ea typeface="標楷體"/>
              </a:rPr>
              <a:t>生涯檔案可蒐集的內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39280" y="907920"/>
            <a:ext cx="741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1. 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成長歷程   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2. 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心理測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3. 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學習表現   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4. 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特殊表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5. 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他人叮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家長期許、同儕建議、教師觀察</a:t>
            </a:r>
            <a:r>
              <a:rPr b="1" lang="en-US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6. </a:t>
            </a:r>
            <a:r>
              <a:rPr b="1" lang="zh-TW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職業訪談     </a:t>
            </a:r>
            <a:r>
              <a:rPr b="1" lang="en-US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7. </a:t>
            </a:r>
            <a:r>
              <a:rPr b="1" lang="zh-TW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參訪心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8. </a:t>
            </a:r>
            <a:r>
              <a:rPr b="1" lang="zh-TW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行業資訊     </a:t>
            </a:r>
            <a:r>
              <a:rPr b="1" lang="en-US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9. </a:t>
            </a:r>
            <a:r>
              <a:rPr b="1" lang="zh-TW" sz="3200" spc="-1" strike="noStrike">
                <a:solidFill>
                  <a:srgbClr val="6600ff"/>
                </a:solidFill>
                <a:latin typeface="標楷體"/>
                <a:ea typeface="標楷體"/>
              </a:rPr>
              <a:t>升學管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10.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評估     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11.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涯規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12.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行動計畫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文字方塊 3"/>
          <p:cNvSpPr/>
          <p:nvPr/>
        </p:nvSpPr>
        <p:spPr>
          <a:xfrm>
            <a:off x="6875640" y="18900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※</a:t>
            </a:r>
            <a:r>
              <a:rPr b="1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詳見查閱記錄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06:22:05Z</dcterms:created>
  <dc:creator>XP</dc:creator>
  <dc:description/>
  <dc:language>en-US</dc:language>
  <cp:lastModifiedBy>BONNIE</cp:lastModifiedBy>
  <dcterms:modified xsi:type="dcterms:W3CDTF">2012-09-17T06:26:32Z</dcterms:modified>
  <cp:revision>143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nounceUnit">
    <vt:lpwstr>綜合活動</vt:lpwstr>
  </property>
  <property fmtid="{D5CDD505-2E9C-101B-9397-08002B2CF9AE}" pid="3" name="ContentType">
    <vt:lpwstr>共享文件</vt:lpwstr>
  </property>
  <property fmtid="{D5CDD505-2E9C-101B-9397-08002B2CF9AE}" pid="4" name="DocType">
    <vt:lpwstr>無</vt:lpwstr>
  </property>
  <property fmtid="{D5CDD505-2E9C-101B-9397-08002B2CF9AE}" pid="5" name="Memo">
    <vt:lpwstr>&lt;div class=ExternalClassEFAF0723695F460982624405B4A2E552&gt;&lt;div&gt;&lt;/div&gt;&lt;/div&gt;</vt:lpwstr>
  </property>
  <property fmtid="{D5CDD505-2E9C-101B-9397-08002B2CF9AE}" pid="6" name="Tags">
    <vt:lpwstr/>
  </property>
</Properties>
</file>