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1.png" ContentType="image/png"/>
  <Override PartName="/ppt/media/image4.png" ContentType="image/png"/>
  <Override PartName="/ppt/media/image22.jpeg" ContentType="image/jpeg"/>
  <Override PartName="/ppt/media/image7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11.gif" ContentType="image/gif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wmf" ContentType="image/x-wmf"/>
  <Override PartName="/ppt/media/image16.png" ContentType="image/png"/>
  <Override PartName="/ppt/media/image13.wmf" ContentType="image/x-wmf"/>
  <Override PartName="/ppt/media/image27.jpeg" ContentType="image/jpeg"/>
  <Override PartName="/ppt/media/image17.gif" ContentType="image/gif"/>
  <Override PartName="/ppt/media/image25.gif" ContentType="image/gif"/>
  <Override PartName="/ppt/media/image6.jpeg" ContentType="image/jpeg"/>
  <Override PartName="/ppt/media/image18.png" ContentType="image/png"/>
  <Override PartName="/ppt/media/image19.jpeg" ContentType="image/jpeg"/>
  <Override PartName="/ppt/media/image3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5475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43CB-AD1C-4A7D-8382-2DDC3545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776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165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881-782B-4E42-908F-6D70982E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776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776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165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165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1A2D-8CAC-442D-B1BD-F6E8A8C2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776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776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776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165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165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165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BA4-A1C8-4012-A2AC-B963EDEB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8A3B-616C-402B-8050-34C9149F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776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BE2A-6AD5-4B84-BE4B-19A4EBD4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776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F3EA-8C7F-4E52-B3EF-635A2B64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776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776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D57B-78D4-485F-A4D5-DDD28338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6330-59FA-4BB0-AC4A-A1D8FF65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18880"/>
            <a:ext cx="82296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9BF8-3181-4CB6-BDFC-B094A215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776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776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165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8EA8-32AD-4D9F-9F16-12F394F7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776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67A-DBA3-4FCD-88B8-AA418BB7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776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776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165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CB61-EE06-4676-AF7B-F09AC07E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776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776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165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9B1D-4D91-4A00-B1A8-D211AEA4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776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165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55D4-D7C0-4294-A5A9-A887C57A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776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776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165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165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ACD3-C090-4565-BF7D-3EF39337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776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776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776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165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165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165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AB16-E64E-4A6D-BF5B-838DF4A1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776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4E40-9D44-417F-8922-B93D3EFD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776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776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BE0-451A-4D1A-9C67-2772D19C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8AE-0E1E-4CC6-9736-8BE87935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18880"/>
            <a:ext cx="82296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1EEA-9EB8-48FF-A11F-73F3BD5B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776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776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165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227-D1A1-4081-A62C-BC83D1BF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776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776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165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E14-F0E5-4112-93F9-2210911C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776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776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165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6CB-66A9-43EC-91C7-1D3E2957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776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87800"/>
            <a:ext cx="2133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8780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87800"/>
            <a:ext cx="2133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11B1-D6FA-4627-ADBF-70F128261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582480"/>
            <a:ext cx="1187280" cy="4894560"/>
          </a:xfrm>
          <a:prstGeom prst="rect">
            <a:avLst/>
          </a:prstGeom>
          <a:solidFill>
            <a:srgbClr val="00a5c7"/>
          </a:solidFill>
          <a:ln w="19080">
            <a:solidFill>
              <a:srgbClr val="00a7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971640" y="577800"/>
            <a:ext cx="7921440" cy="0"/>
          </a:xfrm>
          <a:prstGeom prst="line">
            <a:avLst/>
          </a:prstGeom>
          <a:ln w="19080">
            <a:solidFill>
              <a:srgbClr val="00a5c7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1" descr="未命名 - 1"/>
          <p:cNvPicPr/>
          <p:nvPr/>
        </p:nvPicPr>
        <p:blipFill>
          <a:blip r:embed="rId2"/>
          <a:stretch/>
        </p:blipFill>
        <p:spPr>
          <a:xfrm>
            <a:off x="324000" y="216000"/>
            <a:ext cx="866520" cy="374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32" descr="未命名 - 1"/>
          <p:cNvPicPr/>
          <p:nvPr/>
        </p:nvPicPr>
        <p:blipFill>
          <a:blip r:embed="rId3"/>
          <a:stretch/>
        </p:blipFill>
        <p:spPr>
          <a:xfrm>
            <a:off x="923760" y="3746520"/>
            <a:ext cx="190800" cy="15987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33" descr="未命名 - 1"/>
          <p:cNvPicPr/>
          <p:nvPr/>
        </p:nvPicPr>
        <p:blipFill>
          <a:blip r:embed="rId4"/>
          <a:stretch/>
        </p:blipFill>
        <p:spPr>
          <a:xfrm>
            <a:off x="324000" y="657360"/>
            <a:ext cx="630000" cy="402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dc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>
            <a:off x="0" y="0"/>
            <a:ext cx="9144000" cy="577800"/>
          </a:xfrm>
          <a:prstGeom prst="rect">
            <a:avLst/>
          </a:prstGeom>
          <a:solidFill>
            <a:srgbClr val="00a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434880"/>
            <a:ext cx="9144000" cy="71640"/>
          </a:xfrm>
          <a:prstGeom prst="rect">
            <a:avLst/>
          </a:prstGeom>
          <a:solidFill>
            <a:srgbClr val="b0d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680760" y="69696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roadway BT"/>
                <a:ea typeface="新細明體"/>
              </a:rPr>
              <a:t>Chapter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2008861893937577807"/>
          <p:cNvPicPr/>
          <p:nvPr/>
        </p:nvPicPr>
        <p:blipFill>
          <a:blip r:embed="rId2"/>
          <a:stretch/>
        </p:blipFill>
        <p:spPr>
          <a:xfrm>
            <a:off x="5364000" y="290520"/>
            <a:ext cx="58752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20088618939375778014"/>
          <p:cNvPicPr/>
          <p:nvPr/>
        </p:nvPicPr>
        <p:blipFill>
          <a:blip r:embed="rId3"/>
          <a:stretch/>
        </p:blipFill>
        <p:spPr>
          <a:xfrm>
            <a:off x="5942160" y="14616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776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4987800"/>
            <a:ext cx="2133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498780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4987800"/>
            <a:ext cx="2133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EACE-FC3D-480B-A90F-BA67C4EFB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file:///&#24515;&#29702;&#28204;&#39511;-&#27880;&#38899;&#30340;&#22995;&#21517;&#21344;&#21340;.doc" TargetMode="External"/><Relationship Id="rId3" Type="http://schemas.openxmlformats.org/officeDocument/2006/relationships/hyperlink" Target="file:///../../../&#20339;&#25991;.&#24433;&#29255;.&#26377;&#30340;&#27794;&#30340;/&#20234;&#33678;&#35997;&#29246;&#27714;&#23130;&#24291;&#21578;" TargetMode="Externa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wmf"/><Relationship Id="rId4" Type="http://schemas.openxmlformats.org/officeDocument/2006/relationships/image" Target="../media/image13.wmf"/><Relationship Id="rId5" Type="http://schemas.openxmlformats.org/officeDocument/2006/relationships/image" Target="../media/image17.gi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9"/>
          <p:cNvSpPr/>
          <p:nvPr/>
        </p:nvSpPr>
        <p:spPr>
          <a:xfrm>
            <a:off x="179280" y="2090880"/>
            <a:ext cx="6264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華康海報體W12"/>
                <a:ea typeface="華康海報體W12"/>
              </a:rPr>
              <a:t>第</a:t>
            </a:r>
            <a:r>
              <a:rPr b="0" lang="en-US" sz="5400" spc="-1" strike="noStrike">
                <a:solidFill>
                  <a:srgbClr val="000000"/>
                </a:solidFill>
                <a:latin typeface="華康海報體W12"/>
                <a:ea typeface="華康海報體W12"/>
              </a:rPr>
              <a:t>4</a:t>
            </a:r>
            <a:r>
              <a:rPr b="0" lang="zh-TW" sz="5400" spc="-1" strike="noStrike">
                <a:solidFill>
                  <a:srgbClr val="000000"/>
                </a:solidFill>
                <a:latin typeface="華康海報體W12"/>
                <a:ea typeface="華康海報體W12"/>
              </a:rPr>
              <a:t>主題 第</a:t>
            </a:r>
            <a:r>
              <a:rPr b="0" lang="en-US" sz="5400" spc="-1" strike="noStrike">
                <a:solidFill>
                  <a:srgbClr val="000000"/>
                </a:solidFill>
                <a:latin typeface="華康海報體W12"/>
                <a:ea typeface="華康海報體W12"/>
              </a:rPr>
              <a:t>2</a:t>
            </a:r>
            <a:r>
              <a:rPr b="0" lang="zh-TW" sz="5400" spc="-1" strike="noStrike">
                <a:solidFill>
                  <a:srgbClr val="000000"/>
                </a:solidFill>
                <a:latin typeface="華康海報體W12"/>
                <a:ea typeface="華康海報體W12"/>
              </a:rPr>
              <a:t>單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華康海報體W12"/>
                <a:ea typeface="華康海報體W12"/>
              </a:rPr>
              <a:t>我的特質密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橢圓 7"/>
          <p:cNvSpPr/>
          <p:nvPr/>
        </p:nvSpPr>
        <p:spPr>
          <a:xfrm>
            <a:off x="8317080" y="1514520"/>
            <a:ext cx="358560" cy="4316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橢圓 8"/>
          <p:cNvSpPr/>
          <p:nvPr/>
        </p:nvSpPr>
        <p:spPr>
          <a:xfrm>
            <a:off x="5796000" y="1225440"/>
            <a:ext cx="360360" cy="433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橢圓 9"/>
          <p:cNvSpPr/>
          <p:nvPr/>
        </p:nvSpPr>
        <p:spPr>
          <a:xfrm>
            <a:off x="6012000" y="2882880"/>
            <a:ext cx="360360" cy="43200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橢圓 10"/>
          <p:cNvSpPr/>
          <p:nvPr/>
        </p:nvSpPr>
        <p:spPr>
          <a:xfrm>
            <a:off x="5724360" y="3243240"/>
            <a:ext cx="360360" cy="43200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橢圓 11"/>
          <p:cNvSpPr/>
          <p:nvPr/>
        </p:nvSpPr>
        <p:spPr>
          <a:xfrm>
            <a:off x="5148360" y="2090880"/>
            <a:ext cx="360360" cy="43164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橢圓 12"/>
          <p:cNvSpPr/>
          <p:nvPr/>
        </p:nvSpPr>
        <p:spPr>
          <a:xfrm>
            <a:off x="6659640" y="3530520"/>
            <a:ext cx="504720" cy="36036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橢圓 13"/>
          <p:cNvSpPr/>
          <p:nvPr/>
        </p:nvSpPr>
        <p:spPr>
          <a:xfrm>
            <a:off x="6084720" y="4033800"/>
            <a:ext cx="358920" cy="43344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橢圓 14"/>
          <p:cNvSpPr/>
          <p:nvPr/>
        </p:nvSpPr>
        <p:spPr>
          <a:xfrm>
            <a:off x="7451640" y="1514520"/>
            <a:ext cx="360360" cy="4316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橢圓 15"/>
          <p:cNvSpPr/>
          <p:nvPr/>
        </p:nvSpPr>
        <p:spPr>
          <a:xfrm>
            <a:off x="6875640" y="1946160"/>
            <a:ext cx="360360" cy="43200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橢圓 16"/>
          <p:cNvSpPr/>
          <p:nvPr/>
        </p:nvSpPr>
        <p:spPr>
          <a:xfrm>
            <a:off x="7020000" y="1298520"/>
            <a:ext cx="360360" cy="4320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字方塊 17"/>
          <p:cNvSpPr/>
          <p:nvPr/>
        </p:nvSpPr>
        <p:spPr>
          <a:xfrm>
            <a:off x="5940360" y="46832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粗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字方塊 18"/>
          <p:cNvSpPr/>
          <p:nvPr/>
        </p:nvSpPr>
        <p:spPr>
          <a:xfrm>
            <a:off x="6443640" y="48988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嘴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橢圓 19"/>
          <p:cNvSpPr/>
          <p:nvPr/>
        </p:nvSpPr>
        <p:spPr>
          <a:xfrm>
            <a:off x="6012000" y="4610160"/>
            <a:ext cx="360360" cy="43164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橢圓 20"/>
          <p:cNvSpPr/>
          <p:nvPr/>
        </p:nvSpPr>
        <p:spPr>
          <a:xfrm>
            <a:off x="6516720" y="4826160"/>
            <a:ext cx="358920" cy="43308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4000" y="433080"/>
            <a:ext cx="40384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客觀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請依規定找兩位同學真實且認真地圈選，勿做人身攻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橢圓 23"/>
          <p:cNvSpPr/>
          <p:nvPr/>
        </p:nvSpPr>
        <p:spPr>
          <a:xfrm>
            <a:off x="6659640" y="2451240"/>
            <a:ext cx="360360" cy="4316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橢圓 24"/>
          <p:cNvSpPr/>
          <p:nvPr/>
        </p:nvSpPr>
        <p:spPr>
          <a:xfrm>
            <a:off x="7093080" y="2451240"/>
            <a:ext cx="358560" cy="4316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橢圓 25"/>
          <p:cNvSpPr/>
          <p:nvPr/>
        </p:nvSpPr>
        <p:spPr>
          <a:xfrm>
            <a:off x="5796000" y="1225440"/>
            <a:ext cx="431640" cy="4334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rcRect l="49530" t="7904" r="18925" b="15315"/>
          <a:stretch/>
        </p:blipFill>
        <p:spPr>
          <a:xfrm>
            <a:off x="4716360" y="0"/>
            <a:ext cx="4103640" cy="5477040"/>
          </a:xfrm>
          <a:prstGeom prst="rect">
            <a:avLst/>
          </a:prstGeom>
          <a:ln w="0">
            <a:noFill/>
          </a:ln>
        </p:spPr>
      </p:pic>
      <p:pic>
        <p:nvPicPr>
          <p:cNvPr id="164" name="圖片 22" descr="149179e17b112b.gif"/>
          <p:cNvPicPr/>
          <p:nvPr/>
        </p:nvPicPr>
        <p:blipFill>
          <a:blip r:embed="rId2"/>
          <a:stretch/>
        </p:blipFill>
        <p:spPr>
          <a:xfrm>
            <a:off x="539640" y="4106880"/>
            <a:ext cx="122400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395280" y="2593800"/>
          <a:ext cx="4032360" cy="1362240"/>
        </p:xfrm>
        <a:graphic>
          <a:graphicData uri="http://schemas.openxmlformats.org/drawingml/2006/table">
            <a:tbl>
              <a:tblPr/>
              <a:tblGrid>
                <a:gridCol w="2016000"/>
                <a:gridCol w="201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回饋者簽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回饋者代表顏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b050"/>
                          </a:solidFill>
                          <a:latin typeface="華康竹風體W4"/>
                          <a:ea typeface="華康竹風體W4"/>
                        </a:rPr>
                        <a:t>王小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b050"/>
                          </a:solidFill>
                          <a:latin typeface="華康竹風體W4"/>
                          <a:ea typeface="華康竹風體W4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66"/>
                          </a:solidFill>
                          <a:latin typeface="華康竹風體W4"/>
                          <a:ea typeface="華康竹風體W4"/>
                        </a:rPr>
                        <a:t>周小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66"/>
                          </a:solidFill>
                          <a:latin typeface="華康竹風體W4"/>
                          <a:ea typeface="華康竹風體W4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57200" y="1277640"/>
            <a:ext cx="40384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2160" y="3519000"/>
            <a:ext cx="777240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1801440"/>
            <a:ext cx="813600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華康POP3體W12"/>
                <a:ea typeface="華康POP3體W12"/>
              </a:rPr>
              <a:t>下週 請帶「綜合活動課本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橢圓 7"/>
          <p:cNvSpPr/>
          <p:nvPr/>
        </p:nvSpPr>
        <p:spPr>
          <a:xfrm>
            <a:off x="8317080" y="1514520"/>
            <a:ext cx="358560" cy="43164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橢圓 8"/>
          <p:cNvSpPr/>
          <p:nvPr/>
        </p:nvSpPr>
        <p:spPr>
          <a:xfrm>
            <a:off x="5364000" y="1154160"/>
            <a:ext cx="360360" cy="43164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橢圓 9"/>
          <p:cNvSpPr/>
          <p:nvPr/>
        </p:nvSpPr>
        <p:spPr>
          <a:xfrm>
            <a:off x="6012000" y="2882880"/>
            <a:ext cx="360360" cy="43200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橢圓 10"/>
          <p:cNvSpPr/>
          <p:nvPr/>
        </p:nvSpPr>
        <p:spPr>
          <a:xfrm>
            <a:off x="5724360" y="3243240"/>
            <a:ext cx="360360" cy="43200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橢圓 11"/>
          <p:cNvSpPr/>
          <p:nvPr/>
        </p:nvSpPr>
        <p:spPr>
          <a:xfrm>
            <a:off x="5148360" y="2090880"/>
            <a:ext cx="360360" cy="43164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橢圓 12"/>
          <p:cNvSpPr/>
          <p:nvPr/>
        </p:nvSpPr>
        <p:spPr>
          <a:xfrm>
            <a:off x="6659640" y="3530520"/>
            <a:ext cx="504720" cy="36036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橢圓 13"/>
          <p:cNvSpPr/>
          <p:nvPr/>
        </p:nvSpPr>
        <p:spPr>
          <a:xfrm>
            <a:off x="6084720" y="4033800"/>
            <a:ext cx="358920" cy="43344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橢圓 14"/>
          <p:cNvSpPr/>
          <p:nvPr/>
        </p:nvSpPr>
        <p:spPr>
          <a:xfrm>
            <a:off x="7451640" y="1514520"/>
            <a:ext cx="360360" cy="43164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橢圓 15"/>
          <p:cNvSpPr/>
          <p:nvPr/>
        </p:nvSpPr>
        <p:spPr>
          <a:xfrm>
            <a:off x="6875640" y="1946160"/>
            <a:ext cx="360360" cy="43200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橢圓 16"/>
          <p:cNvSpPr/>
          <p:nvPr/>
        </p:nvSpPr>
        <p:spPr>
          <a:xfrm>
            <a:off x="5580000" y="2162160"/>
            <a:ext cx="360360" cy="43164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字方塊 17"/>
          <p:cNvSpPr/>
          <p:nvPr/>
        </p:nvSpPr>
        <p:spPr>
          <a:xfrm>
            <a:off x="5940360" y="46832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粗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字方塊 18"/>
          <p:cNvSpPr/>
          <p:nvPr/>
        </p:nvSpPr>
        <p:spPr>
          <a:xfrm>
            <a:off x="6443640" y="48988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嘴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橢圓 19"/>
          <p:cNvSpPr/>
          <p:nvPr/>
        </p:nvSpPr>
        <p:spPr>
          <a:xfrm>
            <a:off x="6012000" y="4610160"/>
            <a:ext cx="360360" cy="43164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橢圓 20"/>
          <p:cNvSpPr/>
          <p:nvPr/>
        </p:nvSpPr>
        <p:spPr>
          <a:xfrm>
            <a:off x="6516720" y="4826160"/>
            <a:ext cx="358920" cy="43308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77640"/>
            <a:ext cx="403848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整合自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比對三個特質葡萄，將兩人以上重複圈選的特質找出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rcRect l="49530" t="11841" r="18925" b="13346"/>
          <a:stretch/>
        </p:blipFill>
        <p:spPr>
          <a:xfrm>
            <a:off x="4716360" y="0"/>
            <a:ext cx="4103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908000" y="1357200"/>
            <a:ext cx="2735280" cy="12654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ahoma"/>
                <a:ea typeface="華康中圓體"/>
              </a:rPr>
              <a:t>我圈，別人也圈的特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908000" y="1009800"/>
            <a:ext cx="2737080" cy="344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開放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643280" y="1357200"/>
            <a:ext cx="2881440" cy="1265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ahoma"/>
                <a:ea typeface="華康中圓體"/>
              </a:rPr>
              <a:t>別人圈，我沒圈的特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4643280" y="1012680"/>
            <a:ext cx="2881440" cy="344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盲點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908000" y="3025800"/>
            <a:ext cx="2735280" cy="12081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ahoma"/>
                <a:ea typeface="華康中圓體"/>
              </a:rPr>
              <a:t>我圈，但別人沒圈的特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4643280" y="3025800"/>
            <a:ext cx="2881440" cy="1208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中圓體"/>
                <a:ea typeface="華康中圓體"/>
              </a:rPr>
              <a:t>等待開發的我</a:t>
            </a:r>
            <a:r>
              <a:rPr b="0" lang="en-US" sz="1800" spc="-1" strike="noStrike">
                <a:solidFill>
                  <a:srgbClr val="ffffff"/>
                </a:solidFill>
                <a:latin typeface="華康中圓體"/>
                <a:ea typeface="華康中圓體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4643280" y="2622600"/>
            <a:ext cx="2881440" cy="403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未知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1908000" y="2622600"/>
            <a:ext cx="2735280" cy="403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隱藏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576108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  <a:ea typeface="華康中圓體"/>
              </a:rPr>
              <a:t>周哈里窗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華康中圓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華康中圓體"/>
              </a:rPr>
              <a:t>P.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1908000" y="1357200"/>
            <a:ext cx="2087640" cy="12654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ahoma"/>
                <a:ea typeface="華康中圓體"/>
              </a:rPr>
              <a:t>我圈，別人也圈的特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908000" y="1009800"/>
            <a:ext cx="2016360" cy="344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開放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924360" y="1370160"/>
            <a:ext cx="3600360" cy="1265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ahoma"/>
                <a:ea typeface="華康中圓體"/>
              </a:rPr>
              <a:t>別人圈，我沒圈的特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3924360" y="1009800"/>
            <a:ext cx="3600360" cy="344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盲點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1908000" y="3025800"/>
            <a:ext cx="2735280" cy="16668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ahoma"/>
                <a:ea typeface="華康中圓體"/>
              </a:rPr>
              <a:t>我圈，但別人沒圈的特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4643280" y="3025800"/>
            <a:ext cx="2881440" cy="245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中圓體"/>
                <a:ea typeface="華康中圓體"/>
              </a:rPr>
              <a:t>等待開發的我</a:t>
            </a:r>
            <a:r>
              <a:rPr b="0" lang="en-US" sz="1800" spc="-1" strike="noStrike">
                <a:solidFill>
                  <a:srgbClr val="ffffff"/>
                </a:solidFill>
                <a:latin typeface="華康中圓體"/>
                <a:ea typeface="華康中圓體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643280" y="2622600"/>
            <a:ext cx="2881440" cy="403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未知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1908000" y="2622600"/>
            <a:ext cx="2735280" cy="403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隱藏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華康海報體W12"/>
              </a:rPr>
              <a:t>你是哪一種「我」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1009800"/>
            <a:ext cx="4038480" cy="295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圓體"/>
              </a:rPr>
              <a:t>開放我最多：非常了解自己，與別人互動最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圓體"/>
              </a:rPr>
              <a:t>盲點我最多：少見的情形，與別人互動相處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圓體"/>
              </a:rPr>
              <a:t>隱藏我最多：不習慣與別人分享心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6360" y="1009800"/>
            <a:ext cx="4176720" cy="302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圓體"/>
              </a:rPr>
              <a:t>開放我最少：多和自己還有別人溝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圓體"/>
              </a:rPr>
              <a:t>盲點我最少：多和別人溝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圓體"/>
              </a:rPr>
              <a:t>隱藏我最少：要適當保護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11"/>
          <p:cNvGrpSpPr/>
          <p:nvPr/>
        </p:nvGrpSpPr>
        <p:grpSpPr>
          <a:xfrm>
            <a:off x="826920" y="1225440"/>
            <a:ext cx="7489800" cy="1657440"/>
            <a:chOff x="826920" y="1225440"/>
            <a:chExt cx="7489800" cy="1657440"/>
          </a:xfrm>
        </p:grpSpPr>
        <p:sp>
          <p:nvSpPr>
            <p:cNvPr id="206" name="AutoShape 8"/>
            <p:cNvSpPr/>
            <p:nvPr/>
          </p:nvSpPr>
          <p:spPr>
            <a:xfrm>
              <a:off x="826920" y="1225440"/>
              <a:ext cx="7489800" cy="236160"/>
            </a:xfrm>
            <a:prstGeom prst="roundRect">
              <a:avLst>
                <a:gd name="adj" fmla="val 16667"/>
              </a:avLst>
            </a:prstGeom>
            <a:solidFill>
              <a:srgbClr val="11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9"/>
            <p:cNvSpPr/>
            <p:nvPr/>
          </p:nvSpPr>
          <p:spPr>
            <a:xfrm>
              <a:off x="826920" y="2646720"/>
              <a:ext cx="7489800" cy="236160"/>
            </a:xfrm>
            <a:prstGeom prst="roundRect">
              <a:avLst>
                <a:gd name="adj" fmla="val 16667"/>
              </a:avLst>
            </a:prstGeom>
            <a:solidFill>
              <a:srgbClr val="11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826920" y="1342800"/>
              <a:ext cx="7489800" cy="1362600"/>
            </a:xfrm>
            <a:prstGeom prst="rect">
              <a:avLst/>
            </a:prstGeom>
            <a:solidFill>
              <a:srgbClr val="11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4"/>
          <p:cNvSpPr/>
          <p:nvPr/>
        </p:nvSpPr>
        <p:spPr>
          <a:xfrm>
            <a:off x="826920" y="137016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華康中圓體"/>
              </a:rPr>
              <a:t>了解自己越多，越能成為自己生涯規劃的主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826920" y="577800"/>
            <a:ext cx="129564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海報體W12"/>
                <a:ea typeface="華康海報體W12"/>
              </a:rPr>
              <a:t>結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8" descr="米滷蛋"/>
          <p:cNvPicPr/>
          <p:nvPr/>
        </p:nvPicPr>
        <p:blipFill>
          <a:blip r:embed="rId2"/>
          <a:stretch/>
        </p:blipFill>
        <p:spPr>
          <a:xfrm>
            <a:off x="3924360" y="374652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5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 rot="10800000">
            <a:off x="0" y="289800"/>
            <a:ext cx="9144000" cy="647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cdc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179280" y="1082520"/>
            <a:ext cx="8642520" cy="4176720"/>
          </a:xfrm>
          <a:prstGeom prst="roundRect">
            <a:avLst>
              <a:gd name="adj" fmla="val 3481"/>
            </a:avLst>
          </a:prstGeom>
          <a:solidFill>
            <a:srgbClr val="000000">
              <a:alpha val="15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9"/>
          <p:cNvGrpSpPr/>
          <p:nvPr/>
        </p:nvGrpSpPr>
        <p:grpSpPr>
          <a:xfrm>
            <a:off x="195840" y="278280"/>
            <a:ext cx="3944520" cy="708120"/>
            <a:chOff x="195840" y="278280"/>
            <a:chExt cx="3944520" cy="708120"/>
          </a:xfrm>
        </p:grpSpPr>
        <p:pic>
          <p:nvPicPr>
            <p:cNvPr id="96" name="Picture 6" descr="生涯停看聽標題"/>
            <p:cNvPicPr/>
            <p:nvPr/>
          </p:nvPicPr>
          <p:blipFill>
            <a:blip r:embed="rId1"/>
            <a:stretch/>
          </p:blipFill>
          <p:spPr>
            <a:xfrm>
              <a:off x="749520" y="358920"/>
              <a:ext cx="3390840" cy="57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7" descr="3d_mogu_03"/>
            <p:cNvPicPr/>
            <p:nvPr/>
          </p:nvPicPr>
          <p:blipFill>
            <a:blip r:embed="rId2"/>
            <a:stretch/>
          </p:blipFill>
          <p:spPr>
            <a:xfrm rot="21000000">
              <a:off x="244080" y="326520"/>
              <a:ext cx="61128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Group 15"/>
          <p:cNvGrpSpPr/>
          <p:nvPr/>
        </p:nvGrpSpPr>
        <p:grpSpPr>
          <a:xfrm>
            <a:off x="468360" y="1298520"/>
            <a:ext cx="4824360" cy="2376000"/>
            <a:chOff x="468360" y="1298520"/>
            <a:chExt cx="4824360" cy="2376000"/>
          </a:xfrm>
        </p:grpSpPr>
        <p:sp>
          <p:nvSpPr>
            <p:cNvPr id="99" name="AutoShape 11"/>
            <p:cNvSpPr/>
            <p:nvPr/>
          </p:nvSpPr>
          <p:spPr>
            <a:xfrm>
              <a:off x="468360" y="1298520"/>
              <a:ext cx="4824360" cy="755280"/>
            </a:xfrm>
            <a:prstGeom prst="roundRect">
              <a:avLst>
                <a:gd name="adj" fmla="val 16667"/>
              </a:avLst>
            </a:prstGeom>
            <a:solidFill>
              <a:srgbClr val="11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2"/>
            <p:cNvSpPr/>
            <p:nvPr/>
          </p:nvSpPr>
          <p:spPr>
            <a:xfrm>
              <a:off x="468360" y="1839240"/>
              <a:ext cx="4824360" cy="755280"/>
            </a:xfrm>
            <a:prstGeom prst="roundRect">
              <a:avLst>
                <a:gd name="adj" fmla="val 16667"/>
              </a:avLst>
            </a:prstGeom>
            <a:solidFill>
              <a:srgbClr val="11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3"/>
            <p:cNvSpPr/>
            <p:nvPr/>
          </p:nvSpPr>
          <p:spPr>
            <a:xfrm>
              <a:off x="468360" y="2378160"/>
              <a:ext cx="4824360" cy="755280"/>
            </a:xfrm>
            <a:prstGeom prst="roundRect">
              <a:avLst>
                <a:gd name="adj" fmla="val 16667"/>
              </a:avLst>
            </a:prstGeom>
            <a:solidFill>
              <a:srgbClr val="11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14"/>
            <p:cNvSpPr/>
            <p:nvPr/>
          </p:nvSpPr>
          <p:spPr>
            <a:xfrm>
              <a:off x="468360" y="2919240"/>
              <a:ext cx="4824360" cy="755280"/>
            </a:xfrm>
            <a:prstGeom prst="roundRect">
              <a:avLst>
                <a:gd name="adj" fmla="val 16667"/>
              </a:avLst>
            </a:prstGeom>
            <a:solidFill>
              <a:srgbClr val="11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0"/>
          <p:cNvSpPr/>
          <p:nvPr/>
        </p:nvSpPr>
        <p:spPr>
          <a:xfrm>
            <a:off x="539640" y="137016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人格特質是指一個人的個性。我們形容一個人「活潑、外向、樂觀、敏感、頑固、保守」等，就是用人格特質在描述一個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圖片 15" descr="1.jpg"/>
          <p:cNvPicPr/>
          <p:nvPr/>
        </p:nvPicPr>
        <p:blipFill>
          <a:blip r:embed="rId3"/>
          <a:stretch/>
        </p:blipFill>
        <p:spPr>
          <a:xfrm>
            <a:off x="5651640" y="1946160"/>
            <a:ext cx="30016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577440"/>
            <a:ext cx="7772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009999"/>
                </a:solidFill>
                <a:uFillTx/>
                <a:latin typeface="Arial"/>
                <a:ea typeface="華康海報體W12"/>
                <a:hlinkClick r:id="rId2"/>
              </a:rPr>
              <a:t>從姓名注音符號看個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4000" y="1585800"/>
            <a:ext cx="7272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009999"/>
                </a:solidFill>
                <a:uFillTx/>
                <a:latin typeface="Arial"/>
                <a:ea typeface="華康海報體W12"/>
                <a:hlinkClick r:id="rId3"/>
              </a:rPr>
              <a:t>從星座看個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013"/>
          <p:cNvPicPr/>
          <p:nvPr/>
        </p:nvPicPr>
        <p:blipFill>
          <a:blip r:embed="rId4"/>
          <a:stretch/>
        </p:blipFill>
        <p:spPr>
          <a:xfrm>
            <a:off x="7596360" y="50652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/>
          <p:cNvSpPr/>
          <p:nvPr/>
        </p:nvSpPr>
        <p:spPr>
          <a:xfrm>
            <a:off x="3142800" y="2666880"/>
            <a:ext cx="2472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華康中圓體"/>
                <a:ea typeface="華康中圓體"/>
              </a:rPr>
              <a:t>星座、血型和坊間心理測驗所描述的個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華康中圓體"/>
                <a:ea typeface="華康中圓體"/>
              </a:rPr>
              <a:t>  </a:t>
            </a:r>
            <a:r>
              <a:rPr b="0" lang="zh-TW" sz="3200" spc="-1" strike="noStrike">
                <a:solidFill>
                  <a:srgbClr val="ff0066"/>
                </a:solidFill>
                <a:latin typeface="華康中圓體"/>
                <a:ea typeface="華康中圓體"/>
              </a:rPr>
              <a:t>真的準嗎？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華康少女文字W7"/>
                <a:ea typeface="華康少女文字W7"/>
              </a:rPr>
              <a:t>為何要認識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3640" y="1225080"/>
            <a:ext cx="519588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完整而全面的自我認識將有助於自己在人生地圖中找到適當的位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自己是自己生涯規劃的主角喔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資料庫圖表 3" descr=""/>
          <p:cNvPicPr/>
          <p:nvPr/>
        </p:nvPicPr>
        <p:blipFill>
          <a:blip r:embed="rId1"/>
          <a:stretch/>
        </p:blipFill>
        <p:spPr>
          <a:xfrm>
            <a:off x="5662440" y="1798560"/>
            <a:ext cx="3140280" cy="34257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"/>
          <p:cNvSpPr/>
          <p:nvPr/>
        </p:nvSpPr>
        <p:spPr>
          <a:xfrm>
            <a:off x="250920" y="938160"/>
            <a:ext cx="8642160" cy="4176720"/>
          </a:xfrm>
          <a:prstGeom prst="roundRect">
            <a:avLst>
              <a:gd name="adj" fmla="val 3481"/>
            </a:avLst>
          </a:prstGeom>
          <a:solidFill>
            <a:srgbClr val="000000">
              <a:alpha val="15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5" descr="MCj04374830000[1]"/>
          <p:cNvPicPr/>
          <p:nvPr/>
        </p:nvPicPr>
        <p:blipFill>
          <a:blip r:embed="rId2"/>
          <a:stretch/>
        </p:blipFill>
        <p:spPr>
          <a:xfrm>
            <a:off x="7473960" y="0"/>
            <a:ext cx="1670040" cy="1828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4" descr="MCj04374470000[1]"/>
          <p:cNvPicPr/>
          <p:nvPr/>
        </p:nvPicPr>
        <p:blipFill>
          <a:blip r:embed="rId3"/>
          <a:stretch/>
        </p:blipFill>
        <p:spPr>
          <a:xfrm>
            <a:off x="0" y="3560760"/>
            <a:ext cx="19717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5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3"/>
          <p:cNvSpPr/>
          <p:nvPr/>
        </p:nvSpPr>
        <p:spPr>
          <a:xfrm>
            <a:off x="250920" y="1082520"/>
            <a:ext cx="8642160" cy="4176720"/>
          </a:xfrm>
          <a:prstGeom prst="roundRect">
            <a:avLst>
              <a:gd name="adj" fmla="val 3481"/>
            </a:avLst>
          </a:prstGeom>
          <a:solidFill>
            <a:srgbClr val="000000">
              <a:alpha val="15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 rot="10800000">
            <a:off x="0" y="289800"/>
            <a:ext cx="9144000" cy="647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cdc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"/>
          <p:cNvGrpSpPr/>
          <p:nvPr/>
        </p:nvGrpSpPr>
        <p:grpSpPr>
          <a:xfrm>
            <a:off x="250920" y="361800"/>
            <a:ext cx="3859200" cy="608040"/>
            <a:chOff x="250920" y="361800"/>
            <a:chExt cx="3859200" cy="608040"/>
          </a:xfrm>
        </p:grpSpPr>
        <p:pic>
          <p:nvPicPr>
            <p:cNvPr id="118" name="Picture 5" descr="生涯停看聽標題"/>
            <p:cNvPicPr/>
            <p:nvPr/>
          </p:nvPicPr>
          <p:blipFill>
            <a:blip r:embed="rId1"/>
            <a:stretch/>
          </p:blipFill>
          <p:spPr>
            <a:xfrm>
              <a:off x="719280" y="361800"/>
              <a:ext cx="3390840" cy="5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6" descr="3d_mogu_02"/>
            <p:cNvPicPr/>
            <p:nvPr/>
          </p:nvPicPr>
          <p:blipFill>
            <a:blip r:embed="rId2"/>
            <a:stretch/>
          </p:blipFill>
          <p:spPr>
            <a:xfrm>
              <a:off x="250920" y="361800"/>
              <a:ext cx="608040" cy="608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" name="Picture 24" descr="MCj04374470000[1]"/>
          <p:cNvPicPr/>
          <p:nvPr/>
        </p:nvPicPr>
        <p:blipFill>
          <a:blip r:embed="rId3"/>
          <a:stretch/>
        </p:blipFill>
        <p:spPr>
          <a:xfrm>
            <a:off x="250920" y="3386160"/>
            <a:ext cx="1971720" cy="191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5" descr="MCj04374830000[1]"/>
          <p:cNvPicPr/>
          <p:nvPr/>
        </p:nvPicPr>
        <p:blipFill>
          <a:blip r:embed="rId4"/>
          <a:stretch/>
        </p:blipFill>
        <p:spPr>
          <a:xfrm>
            <a:off x="7473960" y="0"/>
            <a:ext cx="167004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9" descr="海膽2"/>
          <p:cNvPicPr/>
          <p:nvPr/>
        </p:nvPicPr>
        <p:blipFill>
          <a:blip r:embed="rId5"/>
          <a:stretch/>
        </p:blipFill>
        <p:spPr>
          <a:xfrm>
            <a:off x="6516720" y="2738520"/>
            <a:ext cx="2143080" cy="2457360"/>
          </a:xfrm>
          <a:prstGeom prst="rect">
            <a:avLst/>
          </a:prstGeom>
          <a:ln w="0">
            <a:noFill/>
          </a:ln>
        </p:spPr>
      </p:pic>
      <p:pic>
        <p:nvPicPr>
          <p:cNvPr id="123" name="資料庫圖表 16" descr=""/>
          <p:cNvPicPr/>
          <p:nvPr/>
        </p:nvPicPr>
        <p:blipFill>
          <a:blip r:embed="rId6"/>
          <a:stretch/>
        </p:blipFill>
        <p:spPr>
          <a:xfrm>
            <a:off x="1182600" y="1139760"/>
            <a:ext cx="641844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1619280" y="1946160"/>
            <a:ext cx="56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6600cc"/>
                </a:solidFill>
                <a:latin typeface="華康海報體W12"/>
                <a:ea typeface="華康海報體W12"/>
              </a:rPr>
              <a:t>活動：特質葡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4000" y="1298160"/>
            <a:ext cx="403848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標楷體"/>
                <a:ea typeface="標楷體"/>
              </a:rPr>
              <a:t>主觀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憑直覺圈選出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擁有的特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若有些特質未被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出，請寫在空白葡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萄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橢圓 7"/>
          <p:cNvSpPr/>
          <p:nvPr/>
        </p:nvSpPr>
        <p:spPr>
          <a:xfrm>
            <a:off x="8317080" y="1514520"/>
            <a:ext cx="358560" cy="43164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橢圓 8"/>
          <p:cNvSpPr/>
          <p:nvPr/>
        </p:nvSpPr>
        <p:spPr>
          <a:xfrm>
            <a:off x="5364000" y="1154160"/>
            <a:ext cx="360360" cy="43164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橢圓 9"/>
          <p:cNvSpPr/>
          <p:nvPr/>
        </p:nvSpPr>
        <p:spPr>
          <a:xfrm>
            <a:off x="6012000" y="2882880"/>
            <a:ext cx="360360" cy="43200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橢圓 10"/>
          <p:cNvSpPr/>
          <p:nvPr/>
        </p:nvSpPr>
        <p:spPr>
          <a:xfrm>
            <a:off x="5724360" y="3243240"/>
            <a:ext cx="360360" cy="43200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橢圓 11"/>
          <p:cNvSpPr/>
          <p:nvPr/>
        </p:nvSpPr>
        <p:spPr>
          <a:xfrm>
            <a:off x="5148360" y="2090880"/>
            <a:ext cx="360360" cy="43164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橢圓 12"/>
          <p:cNvSpPr/>
          <p:nvPr/>
        </p:nvSpPr>
        <p:spPr>
          <a:xfrm>
            <a:off x="6659640" y="3530520"/>
            <a:ext cx="504720" cy="36036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橢圓 13"/>
          <p:cNvSpPr/>
          <p:nvPr/>
        </p:nvSpPr>
        <p:spPr>
          <a:xfrm>
            <a:off x="6084720" y="4033800"/>
            <a:ext cx="358920" cy="43344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橢圓 14"/>
          <p:cNvSpPr/>
          <p:nvPr/>
        </p:nvSpPr>
        <p:spPr>
          <a:xfrm>
            <a:off x="7451640" y="1514520"/>
            <a:ext cx="360360" cy="43164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橢圓 15"/>
          <p:cNvSpPr/>
          <p:nvPr/>
        </p:nvSpPr>
        <p:spPr>
          <a:xfrm>
            <a:off x="6875640" y="1946160"/>
            <a:ext cx="360360" cy="43200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橢圓 16"/>
          <p:cNvSpPr/>
          <p:nvPr/>
        </p:nvSpPr>
        <p:spPr>
          <a:xfrm>
            <a:off x="5580000" y="2162160"/>
            <a:ext cx="360360" cy="43164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字方塊 17"/>
          <p:cNvSpPr/>
          <p:nvPr/>
        </p:nvSpPr>
        <p:spPr>
          <a:xfrm>
            <a:off x="5940360" y="46832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粗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字方塊 18"/>
          <p:cNvSpPr/>
          <p:nvPr/>
        </p:nvSpPr>
        <p:spPr>
          <a:xfrm>
            <a:off x="6443640" y="48988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嘴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橢圓 19"/>
          <p:cNvSpPr/>
          <p:nvPr/>
        </p:nvSpPr>
        <p:spPr>
          <a:xfrm>
            <a:off x="6012000" y="4610160"/>
            <a:ext cx="360360" cy="43164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橢圓 20"/>
          <p:cNvSpPr/>
          <p:nvPr/>
        </p:nvSpPr>
        <p:spPr>
          <a:xfrm>
            <a:off x="6516720" y="4826160"/>
            <a:ext cx="358920" cy="43308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rcRect l="49530" t="7904" r="18925" b="17224"/>
          <a:stretch/>
        </p:blipFill>
        <p:spPr>
          <a:xfrm>
            <a:off x="4643280" y="0"/>
            <a:ext cx="410544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少女文字W7"/>
                <a:ea typeface="華康少女文字W7"/>
              </a:rPr>
              <a:t>特質葡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71640" y="4177800"/>
            <a:ext cx="76327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特質並沒有所謂的好壞，學習在適當的時候表現適合的特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資料庫圖表 6" descr=""/>
          <p:cNvPicPr/>
          <p:nvPr/>
        </p:nvPicPr>
        <p:blipFill>
          <a:blip r:embed="rId2"/>
          <a:stretch/>
        </p:blipFill>
        <p:spPr>
          <a:xfrm>
            <a:off x="360360" y="933480"/>
            <a:ext cx="62596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07:24:58Z</dcterms:created>
  <dc:creator>user27</dc:creator>
  <dc:description/>
  <dc:language>en-US</dc:language>
  <cp:lastModifiedBy>BONNIE</cp:lastModifiedBy>
  <dcterms:modified xsi:type="dcterms:W3CDTF">2012-11-13T05:57:29Z</dcterms:modified>
  <cp:revision>203</cp:revision>
  <dc:subject/>
  <dc:title>投影片 1</dc:title>
</cp:coreProperties>
</file>